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0840" y="1155240"/>
            <a:ext cx="8610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0840" y="3941280"/>
            <a:ext cx="8610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0840" y="1155240"/>
            <a:ext cx="4201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3360" y="1155240"/>
            <a:ext cx="4201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40840" y="3941280"/>
            <a:ext cx="4201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3360" y="3941280"/>
            <a:ext cx="4201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0840" y="115524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52160" y="115524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15524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40840" y="394128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52160" y="394128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4128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40840" y="11552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40840" y="11552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0840" y="1155240"/>
            <a:ext cx="4201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3360" y="1155240"/>
            <a:ext cx="4201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40840" y="1155240"/>
            <a:ext cx="4201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3360" y="1155240"/>
            <a:ext cx="4201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40840" y="3941280"/>
            <a:ext cx="4201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0840" y="1155240"/>
            <a:ext cx="4201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3360" y="1155240"/>
            <a:ext cx="4201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3360" y="3941280"/>
            <a:ext cx="4201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0840" y="1155240"/>
            <a:ext cx="4201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3360" y="1155240"/>
            <a:ext cx="4201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40840" y="3941280"/>
            <a:ext cx="8610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840" y="11552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8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8b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01600" y="610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orbereitung für ein deutsches Doktorandenprogramm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                               M. Hauschild und C. Rembser, DAC Vollversammlung  Feb-28-2007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        Seite </a:t>
            </a:r>
            <a:fld id="{D4A9094D-8793-4672-A857-8AC23E06E4D1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b"/>
                </a:solidFill>
                <a:latin typeface="Comic Sans MS"/>
              </a:rPr>
              <a:t>Vorbereitung für ein deutsches Doktorandenprogramm</a:t>
            </a: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1434600"/>
            <a:ext cx="914400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Zur Erinnerung: das </a:t>
            </a:r>
            <a:r>
              <a:rPr b="0" lang="en-US" sz="1800" spc="-1" strike="noStrike">
                <a:solidFill>
                  <a:srgbClr val="c266fa"/>
                </a:solidFill>
                <a:latin typeface="Comic Sans MS"/>
              </a:rPr>
              <a:t>CERN “Doctoral Student Programme”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zur Zeit 84 “Doctoral Students” am CERN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2" marL="1108440" indent="-221400">
              <a:spcBef>
                <a:spcPts val="400"/>
              </a:spcBef>
              <a:buClr>
                <a:srgbClr val="00008b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Comic Sans MS"/>
              </a:rPr>
              <a:t>inkl. 25 Studenten eines zusätzlichen nationalen österreichischen Programms</a:t>
            </a:r>
            <a:endParaRPr b="0" lang="en-US" sz="1600" spc="-1" strike="noStrike">
              <a:solidFill>
                <a:srgbClr val="00008b"/>
              </a:solidFill>
              <a:latin typeface="Comic Sans MS"/>
            </a:endParaRPr>
          </a:p>
          <a:p>
            <a:pPr lvl="2" marL="1108440" indent="-221400">
              <a:spcBef>
                <a:spcPts val="400"/>
              </a:spcBef>
              <a:buClr>
                <a:srgbClr val="00008b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Comic Sans MS"/>
              </a:rPr>
              <a:t>deutsche Studenten: </a:t>
            </a:r>
            <a:r>
              <a:rPr b="1" lang="en-US" sz="1600" spc="-1" strike="noStrike">
                <a:solidFill>
                  <a:srgbClr val="c266fa"/>
                </a:solidFill>
                <a:latin typeface="Comic Sans MS"/>
              </a:rPr>
              <a:t>2(!)</a:t>
            </a:r>
            <a:endParaRPr b="0" lang="en-US" sz="1600" spc="-1" strike="noStrike">
              <a:solidFill>
                <a:srgbClr val="00008b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Verteilung der “Doctoral Students”: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2" marL="1108440" indent="-221400">
              <a:spcBef>
                <a:spcPts val="349"/>
              </a:spcBef>
              <a:buClr>
                <a:srgbClr val="00008b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Comic Sans MS"/>
              </a:rPr>
              <a:t>40% PH</a:t>
            </a: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8b"/>
                </a:solidFill>
                <a:latin typeface="Comic Sans MS"/>
              </a:rPr>
              <a:t>(Detektor R&amp;D, Elektronik, Rekonstruktionssoftware, etc.)</a:t>
            </a:r>
            <a:endParaRPr b="0" lang="en-US" sz="1400" spc="-1" strike="noStrike">
              <a:solidFill>
                <a:srgbClr val="00008b"/>
              </a:solidFill>
              <a:latin typeface="Comic Sans MS"/>
            </a:endParaRPr>
          </a:p>
          <a:p>
            <a:pPr lvl="2" marL="1108440" indent="-221400">
              <a:spcBef>
                <a:spcPts val="349"/>
              </a:spcBef>
              <a:buClr>
                <a:srgbClr val="00008b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Comic Sans MS"/>
              </a:rPr>
              <a:t>40% AB/AT</a:t>
            </a:r>
            <a:endParaRPr b="0" lang="en-US" sz="1400" spc="-1" strike="noStrike">
              <a:solidFill>
                <a:srgbClr val="00008b"/>
              </a:solidFill>
              <a:latin typeface="Comic Sans MS"/>
            </a:endParaRPr>
          </a:p>
          <a:p>
            <a:pPr lvl="2" marL="1108440" indent="-221400">
              <a:spcBef>
                <a:spcPts val="349"/>
              </a:spcBef>
              <a:buClr>
                <a:srgbClr val="00008b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b"/>
                </a:solidFill>
                <a:latin typeface="Comic Sans MS"/>
              </a:rPr>
              <a:t>20% andere Departemente</a:t>
            </a:r>
            <a:endParaRPr b="0" lang="en-US" sz="1400" spc="-1" strike="noStrike">
              <a:solidFill>
                <a:srgbClr val="00008b"/>
              </a:solidFill>
              <a:latin typeface="Comic Sans MS"/>
            </a:endParaRPr>
          </a:p>
          <a:p>
            <a:pPr lvl="1" marL="720720" indent="-277200">
              <a:spcBef>
                <a:spcPts val="451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Auswahl der Studenten durch Technical Students Committee (TSC)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1" marL="720720" indent="-277200">
              <a:spcBef>
                <a:spcPts val="451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Themen der Doktorarbeiten sind </a:t>
            </a:r>
            <a:r>
              <a:rPr b="0" lang="en-US" sz="1800" spc="-1" strike="noStrike">
                <a:solidFill>
                  <a:srgbClr val="c266fa"/>
                </a:solidFill>
                <a:latin typeface="Comic Sans MS"/>
              </a:rPr>
              <a:t>technikbezogen</a:t>
            </a: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 (keine Analyse experimenteller Daten, keine Theorie)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b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8b"/>
              </a:buClr>
              <a:buFont typeface="Symbol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Österreichisches Programm sehr erfolgreich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Anteil am CERN Budget (2005)  AU: 2.2% </a:t>
            </a:r>
            <a:r>
              <a:rPr b="0" lang="en-US" sz="2000" spc="-1" strike="noStrike">
                <a:solidFill>
                  <a:srgbClr val="008b00"/>
                </a:solidFill>
                <a:latin typeface="Comic Sans MS"/>
              </a:rPr>
              <a:t>(D: 20.1%)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Anteil Fellows  AU: 5.7% </a:t>
            </a:r>
            <a:r>
              <a:rPr b="0" lang="en-US" sz="2000" spc="-1" strike="noStrike">
                <a:solidFill>
                  <a:srgbClr val="008b00"/>
                </a:solidFill>
                <a:latin typeface="Comic Sans MS"/>
              </a:rPr>
              <a:t>(D: 12.2%)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787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b"/>
                </a:solidFill>
                <a:latin typeface="Comic Sans MS"/>
              </a:rPr>
              <a:t>Das österreichische Programm</a:t>
            </a: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155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Mittel für </a:t>
            </a:r>
            <a:r>
              <a:rPr b="0" lang="en-US" sz="2000" spc="-1" strike="noStrike">
                <a:solidFill>
                  <a:srgbClr val="bd6cfa"/>
                </a:solidFill>
                <a:latin typeface="Comic Sans MS"/>
              </a:rPr>
              <a:t>~10 Studenten</a:t>
            </a: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 pro Jahr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zunächst für 24 Monate, Verlängerung um 6 Monate möglich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eingebettet in das CERN “Doctoral Student Programme”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identische Konditionen für Teilnehmer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technikbezogene Themen </a:t>
            </a:r>
            <a:r>
              <a:rPr b="0" lang="en-US" sz="1600" spc="-1" strike="noStrike">
                <a:solidFill>
                  <a:srgbClr val="00008b"/>
                </a:solidFill>
                <a:latin typeface="Comic Sans MS"/>
              </a:rPr>
              <a:t>(Ausnahme: einige wenige “Analyse”-Studenten, Auswahl nicht über TSC)</a:t>
            </a:r>
            <a:endParaRPr b="0" lang="en-US" sz="1600" spc="-1" strike="noStrike">
              <a:solidFill>
                <a:srgbClr val="00008b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Auslagen für das CERN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Reisen zu Konferenzen &amp; Treffen der nationalen Physikalische Gesellschaft, Französischkurse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Einladung des österreichischen Betreuers </a:t>
            </a:r>
            <a:r>
              <a:rPr b="0" lang="en-US" sz="1600" spc="-1" strike="noStrike">
                <a:solidFill>
                  <a:srgbClr val="00008b"/>
                </a:solidFill>
                <a:latin typeface="Comic Sans MS"/>
              </a:rPr>
              <a:t>(volle Kostenübernahme)</a:t>
            </a:r>
            <a:endParaRPr b="0" lang="en-US" sz="1600" spc="-1" strike="noStrike">
              <a:solidFill>
                <a:srgbClr val="00008b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zwei Programm-Koordinatoren am CERN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Michael Benedikt (AB) und Werner Riegler (PH)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Auswahl und Koordination der Themen: CERN und Betreuer (AU)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Rangliste der Kandidaten </a:t>
            </a:r>
            <a:r>
              <a:rPr b="1" lang="en-US" sz="1800" spc="-1" strike="noStrike">
                <a:solidFill>
                  <a:srgbClr val="00008b"/>
                </a:solidFill>
                <a:latin typeface="Comic Sans MS"/>
              </a:rPr>
              <a:t>vor</a:t>
            </a: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 Selektion durch TSC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008b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b"/>
                </a:solidFill>
                <a:latin typeface="Comic Sans MS"/>
              </a:rPr>
              <a:t>Rangliste wird üblicherweise vom TSC übernommen</a:t>
            </a:r>
            <a:endParaRPr b="0" lang="en-US" sz="1600" spc="-1" strike="noStrike">
              <a:solidFill>
                <a:srgbClr val="00008b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b"/>
                </a:solidFill>
                <a:latin typeface="Comic Sans MS"/>
              </a:rPr>
              <a:t>Einmal pro Jahr: </a:t>
            </a:r>
            <a:r>
              <a:rPr b="0" lang="en-US" sz="2400" spc="-1" strike="noStrike">
                <a:solidFill>
                  <a:srgbClr val="bd6cfa"/>
                </a:solidFill>
                <a:latin typeface="Comic Sans MS"/>
              </a:rPr>
              <a:t>Werbeveranstaltungen</a:t>
            </a:r>
            <a:r>
              <a:rPr b="0" lang="en-US" sz="2400" spc="-1" strike="noStrike">
                <a:solidFill>
                  <a:srgbClr val="00008b"/>
                </a:solidFill>
                <a:latin typeface="Comic Sans MS"/>
              </a:rPr>
              <a:t> in AU, Reise der Koordinatoren zu Vorträgen an die Universitäten</a:t>
            </a:r>
            <a:endParaRPr b="0" lang="en-US" sz="24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77840" y="723960"/>
            <a:ext cx="8763120" cy="291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b"/>
                </a:solidFill>
                <a:latin typeface="Comic Sans MS"/>
              </a:rPr>
              <a:t>(Initiiert 1991 von Chris Fabjan und Hannes Aiginger, TU W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7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b"/>
                </a:solidFill>
                <a:latin typeface="Comic Sans MS"/>
              </a:rPr>
              <a:t>Plan für ein deutsches Doktorandenprogramm</a:t>
            </a:r>
            <a:endParaRPr b="1" lang="en-US" sz="32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55600"/>
            <a:ext cx="9144000" cy="57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Mittel für </a:t>
            </a:r>
            <a:r>
              <a:rPr b="0" lang="en-US" sz="2000" spc="-1" strike="noStrike">
                <a:solidFill>
                  <a:srgbClr val="bd6cfa"/>
                </a:solidFill>
                <a:latin typeface="Comic Sans MS"/>
              </a:rPr>
              <a:t>~20 Studenten</a:t>
            </a: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 pro Jahr für 2-3 Jahre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~50 zusätzliche deutsche Studenten zu dem bestehenden Programm mit 80-90 Teilnehmern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benötigte Mittel ~2M€ pro Jahr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eingebettet in das CERN “Doctoral Student Programme”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angestrebter Start: </a:t>
            </a:r>
            <a:r>
              <a:rPr b="0" lang="en-US" sz="2000" spc="-1" strike="noStrike">
                <a:solidFill>
                  <a:srgbClr val="bd6cfa"/>
                </a:solidFill>
                <a:latin typeface="Comic Sans MS"/>
              </a:rPr>
              <a:t>Januar 2008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braucht Vorschläge zu  Arbeitsthemen und Auswahl der Teilnehmer im Herbst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Vorstellung zur </a:t>
            </a:r>
            <a:r>
              <a:rPr b="0" lang="en-US" sz="2000" spc="-1" strike="noStrike">
                <a:solidFill>
                  <a:srgbClr val="bd6cfa"/>
                </a:solidFill>
                <a:latin typeface="Comic Sans MS"/>
              </a:rPr>
              <a:t>Finanzierung</a:t>
            </a: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1/3 BMBF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1/3 Grossforschungszentren der Helmholtz-Gemeinschaft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1/3 DESY (</a:t>
            </a:r>
            <a:r>
              <a:rPr b="0" i="1" lang="en-US" sz="2000" spc="-1" strike="noStrike">
                <a:solidFill>
                  <a:srgbClr val="00008b"/>
                </a:solidFill>
                <a:latin typeface="Comic Sans MS"/>
              </a:rPr>
              <a:t>DESY ist Mitglied der Helmhotzgemeinschaft</a:t>
            </a: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8b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b"/>
                </a:solidFill>
                <a:latin typeface="Comic Sans MS"/>
              </a:rPr>
              <a:t>Das Finanzierungsmodell ist noch nicht geklärt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Die Gemeinschaft der deutschen Teilchenphysiker (repr. durch KET) wünscht die Möglichkeit analysebezogener Arbeitsthemen: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Vorschlag: Aufteilung in 10 technische + 10 “Analyse”-Studenten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177840" y="647640"/>
            <a:ext cx="8763120" cy="292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b"/>
                </a:solidFill>
                <a:latin typeface="Comic Sans MS"/>
              </a:rPr>
              <a:t>(ähnlich zu dem österreichischem Programm - auch kopiert von Ande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17160"/>
            <a:ext cx="8763120" cy="749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b"/>
                </a:solidFill>
                <a:latin typeface="Comic Sans MS"/>
              </a:rPr>
              <a:t>Vorbereitungen am CERN</a:t>
            </a:r>
            <a:endParaRPr b="1" lang="en-US" sz="4000" spc="-1" strike="noStrike">
              <a:solidFill>
                <a:srgbClr val="00008b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17520" y="5460840"/>
            <a:ext cx="8572320" cy="723960"/>
          </a:xfrm>
          <a:prstGeom prst="rect">
            <a:avLst/>
          </a:prstGeom>
          <a:solidFill>
            <a:srgbClr val="bbe3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8b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b00"/>
                </a:solidFill>
                <a:latin typeface="Comic Sans MS"/>
              </a:rPr>
              <a:t>auch sinnvoll und nötig um das bestehende CERN Progra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00"/>
                </a:solidFill>
                <a:latin typeface="Comic Sans MS"/>
              </a:rPr>
              <a:t>für deutsche Teilnehmer populär und attraktiv zu machen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0840" y="11552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Treffen &amp; vorbereitende Gespräche beim Mittagessen </a:t>
            </a:r>
            <a:r>
              <a:rPr b="0" lang="en-US" sz="1600" spc="-1" strike="noStrike">
                <a:solidFill>
                  <a:srgbClr val="00008b"/>
                </a:solidFill>
                <a:latin typeface="Comic Sans MS"/>
              </a:rPr>
              <a:t>(M. Hauschild, R. Schmidt, H. Braun, C.R….)</a:t>
            </a:r>
            <a:endParaRPr b="0" lang="en-US" sz="1600" spc="-1" strike="noStrike">
              <a:solidFill>
                <a:srgbClr val="00008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Vorschlag einer </a:t>
            </a:r>
            <a:r>
              <a:rPr b="0" lang="en-US" sz="2000" spc="-1" strike="noStrike">
                <a:solidFill>
                  <a:srgbClr val="c266fa"/>
                </a:solidFill>
                <a:latin typeface="Comic Sans MS"/>
              </a:rPr>
              <a:t>Broschüre</a:t>
            </a: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 zur Information der Zielgruppe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8b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Präsentation des Programms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8b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Beispiele zu möglichen Themen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8b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b"/>
                </a:solidFill>
                <a:latin typeface="Comic Sans MS"/>
              </a:rPr>
              <a:t>Beispiele des beruflichen Werdegangs ehemaliger Teilnehmer</a:t>
            </a:r>
            <a:endParaRPr b="0" lang="en-US" sz="1800" spc="-1" strike="noStrike">
              <a:solidFill>
                <a:srgbClr val="00008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Vorschläge zur Planung von </a:t>
            </a:r>
            <a:r>
              <a:rPr b="0" lang="en-US" sz="2000" spc="-1" strike="noStrike">
                <a:solidFill>
                  <a:srgbClr val="c266fa"/>
                </a:solidFill>
                <a:latin typeface="Comic Sans MS"/>
              </a:rPr>
              <a:t>Werbeveranstaltungen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Ein mögliches nationales Doktorandenprogramm braucht Ihre Unterstützung und Mitarbeit!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Aktivierung alter Kontakte zu den Heimatinstituten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8b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b"/>
                </a:solidFill>
                <a:latin typeface="Comic Sans MS"/>
              </a:rPr>
              <a:t>Vorschläge zu Arbeitsthemen</a:t>
            </a: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oph Rembser</cp:lastModifiedBy>
  <cp:lastPrinted>2007-02-28T13:29:35Z</cp:lastPrinted>
  <dcterms:modified xsi:type="dcterms:W3CDTF">2007-02-28T13:36:09Z</dcterms:modified>
  <cp:revision>32</cp:revision>
  <dc:subject/>
  <dc:title>PS/SPS Beam Tests in 2006 &amp; Draft _x0004_Accelerator Schedule for 2007</dc:title>
</cp:coreProperties>
</file>